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5E23-59DF-4355-9DC2-14CAB060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1D9-F6D6-454B-8FE5-0AC458439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56B-34B8-4429-8A5A-E9F06972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CD8-C513-4E62-9F50-5ABE510F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37B-BF83-4D1F-8604-8671FC9D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5BD-CD94-458E-8A4A-8648DDBE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AB6B-F121-497D-9B74-173C6422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9592-C19D-40F7-8149-771CE267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DC08-DE2F-4C6F-B8F4-31BE4204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1451-DDF0-4302-B9FC-9142BB5E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8759-F3B9-46F2-AC00-B5E0FFF1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0800-58EE-4D25-BEB3-D9919E85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A0F1-7E06-462C-9CCA-B2DD938F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B62-1D94-4293-81CF-DB550394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FB47-0B2C-46CC-837B-B4A63D6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0A88-1F81-4BE9-BD17-ED00232D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B4CF-ED89-4552-A03D-184107A5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0BF7-C351-4748-81A7-A1F5E46E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16A5-651C-4345-B4AA-07A1F8F8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00E-D624-4EAB-90D8-AEB306E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33A-5E4C-4D3C-8B63-AF53D5DC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C22-9624-405D-8875-F89C6B3D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C20-A18B-4C46-A8A5-FCCB8B6A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325-C104-4126-BD0D-AA6A056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0A1-9F5D-47A8-AE4C-4FD92C0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D1B-625D-40CD-BA89-13CF2DE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B03-C8C4-4E41-88A8-361452455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7640-1A5B-45AF-BC84-4197B20A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the Write Tr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 Common Errors and Ways to Correct Them: A Guide to Bet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Subjects and verbs must agree i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One of my goals have been to go to law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my goa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en to go to law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Neither of the children like spin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of 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in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The passenger, along with the driver, were inj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senger, along with the driver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j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Here’s the keys you w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keys you w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Pronouns and their antecedents must agree in gender and number.  Pronoun references should be clear, not va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313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Someone forgot their 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forgot his or her 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Every student should have their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student should have his or her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should have their text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Jane looked at her mother as she opened the g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 the gift, Jan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e looked at her mother opening the g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Do not shift or change the tenses of verbs.  Choose a tense and stay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She works hard but made littl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ks hard but makes littl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ked hard but made littl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ormal essays about literature in the present t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hakespeare characterizes Hamlet as a man of indecision.  He cannot decide whether “to be or not to b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 Do not use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pronoun “you” in formal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Good writers make you want to rea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writers make one want to rea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TV commercials try to make you buy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commercials try to make viewers buy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 Avoid using passive voice verbs.  The subject of the sentence should do the “verb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voice verbs are weak and can obscure respon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“Mistakes were made.”  “Slaves were brought to Americ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: The ball was hit by S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: Sally hit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is better when it contains active, strong, and precise verbs.  Avoid the verb “seem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 Avoid “there are,” “there is,” and “it is.”  Let the subject of the verb prece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There are many students in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 are in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It is difficult to understand the theme of th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theme of the story i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K to say, for example, “It’s rain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 Avoid using “this,” “that,” “these,” and “those” as nouns.  Try to use them as adjectives followed by no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hould a sentence begin with this, that, o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I lost five dollars.  That really made me m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ing five dollars really made me m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ost five dollars.  That loss really made me m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That was the worst movie I have ever 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ovie was the worst I have ever 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like that kind of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 Avoid these expressions: is where, is how, is when, is because, and is why.  Especially avoid “the reason… is becaus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13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Elsinore castle is where Hamlet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inore castle is the place where Hamlet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Picking the right numbers is how to win the lo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ing the right numbers is the way to win the lo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A touchdown is when the ball crosses the goal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uchdown occurs when the ball crosses the goal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The reason I like to ski is because it’s a chall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ike to ski because skiing is a chall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 Avoid misplaced, dangling, or appended participial phr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Rising over the hill, the men saw the bright red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n saw the bright red sun rising over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He fell down the steps, breaking his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ing down the steps, he broke his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fell down the steps and broke his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 Avoid thesaurus goofs—use the proper meaning of a word.  Check spe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731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In winter we should w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ot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sunlight effect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oan me a dol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ove you since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are k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is taller then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r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ed words may show laziness or careless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te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ate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e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s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t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ight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Fragments are incomplete thoughts.  Sentences must be complete thou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My parents are strict.  Like when they won’t let me stay out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parents are strict; they won’t let me stay out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The school has many rules.  For example not chewing g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ool has many rules.  For example, chewing gum is not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We went to the mall.  But didn’t see the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ent to the mall but didn’t see the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-68580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rrect wor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/it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/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/two/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shows possession, e.g. The cat licked its f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s a contraction meaning “it is.”  e.g. It’s 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adverb.  e.g.  Let’s go there after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hows possession.  e.g. Let’s go to their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s a preposition.  e.g. Let’s go to the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ells how many.  e.g. Let’s see two mov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eans “very” or “also.”  e.g. That cake is too sweet.  Let’s invite her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day is an adjective; every day is an adjective +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  Use apostrophes, semicolons, and colon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ostrophe (’) shows pos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John’s coat is on the chair.  That coat is Joh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he coach’s advice helped the team win the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micolon (;) joins two independent cla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he bus will leave soon; students should be rea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on (:) introduces a list or replaces “namely” in an explanation or example.  Never use a colon after a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The seasons of the year are: winter, spring, summer, and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year has four seasons: winter, spring, summer, and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 Use commas after an introductory word, expression, or phr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kly my dear, I don’t give a dam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n the game, we needed l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, he climbed the mou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, only you can dec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strated, he quit the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his best to understand, John read slow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While we were eating the dog began to b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Two years before the peace treaty had been 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 Use quotes around the titles of articles, short stories, songs, and poems; use italics or underline for magazines, newspapers, movies, books, novels, record albums, or p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3134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ven” po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be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line” short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bec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n Drug Use” ar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s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ves Cry” s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rpl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concise and direct in wri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731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The reason that we are meeting is that we need to consider revising the co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meeting to consider revising the co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be redund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He didn’t return the book back to the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As a rule, the hero usually triumphs over the vil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Prepay before pumping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Run-ons = two sentences “run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The current was swift he could not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was swift.  He could not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was swift, and he could not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was swift; he could not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mma splices are two sentences “spliced” (joined)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 like her very much, she has a sense of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comma splices the way you would a run-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her very much.  She has a sense of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her very much, and she has a sense of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her very much; she has a sense of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as should precede coordinating conjunctions when joining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mma before the words and, or, but, nor, for, yet, or so when these words join two independent clauses (sente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acronym “fanboy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e wanted to work, but no job wa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ma is used when joining a dependent clause or ph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e wanted to work if he could find a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e wanted to work but couldn’t find a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3134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Commas should be used correctly when joining independent and dependent clauses containing a subordinating conj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7313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dependent clause comes first, a comma should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Because the roads were icy, school was 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a is not necessary when the dependent clause foll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chool was closed because the roads were 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ubordinating Conj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Sentences connected by a conjunctive adverb must be separated by a semicolon or period, not just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313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John flunked math, therefore he didn’t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flunked math; therefore, he didn’t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flunked math.  Therefore, he didn’t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ve adverbs work best at the front of a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John flunked math.  He did, however,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flunked math.  However, he did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Conjunctive Ad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the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31:30Z</dcterms:created>
  <dc:creator>dhuff</dc:creator>
  <dc:description/>
  <cp:keywords/>
  <dc:language>en-US</dc:language>
  <cp:lastModifiedBy>Chrissi Ritzius</cp:lastModifiedBy>
  <dcterms:modified xsi:type="dcterms:W3CDTF">2010-05-05T22:29:27Z</dcterms:modified>
  <cp:revision>4</cp:revision>
  <dc:subject/>
  <dc:title>On the Write Trac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33</vt:lpwstr>
  </property>
</Properties>
</file>